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C8E-DBA0-4E62-8040-AB5DBD11B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04D-908D-4A84-A5B0-5EC5BD6DF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EB11-8C6D-4113-B757-C3F304D00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DC5-62FF-4EAD-9AD6-D7080BD14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C86-C5D6-4333-A031-8058F55A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D90-5DD6-43C3-9505-FFF8B28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355-8310-497A-A94B-C3092FF9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7F2-3FE6-4F0B-83CA-B8611FF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C808-06A5-45F5-AAF3-6D2EC780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6BF-8737-413C-88BF-52518F7C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7F88-FA50-431F-8B54-F9F7A4E9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AB06-2923-44F9-B4DD-1FE83E6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FA5-3F94-4ADF-B652-571DFCA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4E2-9B4A-4933-A54B-41B882D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4B7-CAE0-4D01-9126-FF4ECB8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B68-C30A-4547-97C7-759E96D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85AB-26E7-4AFB-AE2B-79233F0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3D8B-4095-4526-A69D-C45A540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3EB-2069-43C3-AC39-2550BE7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B5A-0347-4314-968A-881EB410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EFC9-62D4-4C7D-BFFB-87253954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72D9-FDF9-4D5C-9370-D026A15B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0B5B-05E9-47BB-8203-5A49C94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334A-0630-41DA-A4A9-941B917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2629-EE5D-487C-A086-31316209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9CD5-366A-4E73-B666-043DE56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19D-F8A8-4770-A3AF-5826E46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129A-24FB-4B6B-A771-AF85F32A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246D-1CB0-4647-899A-B93E89C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D53E-0515-4FA4-912C-5B25B26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7CDB-F4DF-4424-8BAF-365835B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13A5-1574-495A-A058-3A03845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009A-CD1C-4711-91D7-39ECD5EA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FDA6-3786-4D47-AD42-0E1F6778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4F73-36DF-4353-9E7D-CD1467CC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F5DB-79FE-4EDF-A500-59FCD88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3CFE-714B-4782-8C00-6CA1FF9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E1C-C75B-41D8-86B7-552996AF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5723-2E88-46DA-A5AD-C5C2D77A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8319-F6D2-4BE4-A00B-96D9506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552E-71C3-4F66-A44B-35457FF9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5C3F-862C-4CD7-8285-F435A23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28F6-47F4-4EB4-9803-95C0E6D9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CDD4D-AF7E-4052-B5DC-05A6112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819E-D645-437B-9B9A-88E7EBA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29FE-401B-4EF9-A4E9-F2A8A183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8E9F-2AD5-4311-9037-B53FD395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D0F-B896-447C-8CDA-7E9CBF2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B6E-FFE0-41AF-A3B5-C4DBDA25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A30-D187-4CBA-A7AF-14EF1E8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A4A-B744-4F4E-8DFC-CE921B4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AF6-513C-4B60-BD18-E45F4E8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469800" y="8089920"/>
            <a:ext cx="5943600" cy="719280"/>
            <a:chOff x="469800" y="8089920"/>
            <a:chExt cx="5943600" cy="71928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469800" y="8089920"/>
              <a:ext cx="59436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471240" y="8092800"/>
              <a:ext cx="5940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549360" y="766800"/>
            <a:ext cx="57722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9360" y="768240"/>
            <a:ext cx="5772240" cy="7620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407520" y="363600"/>
            <a:ext cx="425520" cy="757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5920200" y="562680"/>
            <a:ext cx="757440" cy="4255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839840" y="7745400"/>
            <a:ext cx="911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685800" y="7745400"/>
            <a:ext cx="415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52800" y="7745400"/>
            <a:ext cx="41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D7A-E0BF-4384-BC56-86748C09A3BA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665280" y="7486560"/>
            <a:ext cx="5546520" cy="723960"/>
            <a:chOff x="665280" y="7486560"/>
            <a:chExt cx="5546520" cy="72396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665280" y="7486560"/>
              <a:ext cx="55465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68160" y="7489440"/>
              <a:ext cx="55375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743040" y="1355760"/>
            <a:ext cx="5384880" cy="644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743040" y="1346040"/>
            <a:ext cx="5384880" cy="6442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77440" y="936720"/>
            <a:ext cx="425520" cy="75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5725800" y="1164960"/>
            <a:ext cx="755640" cy="42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5078520" y="7143480"/>
            <a:ext cx="90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880560" y="7143480"/>
            <a:ext cx="3775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660560" y="7143480"/>
            <a:ext cx="414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FDD-644B-4EB3-B831-F8C12679A6D5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469800" y="8077320"/>
            <a:ext cx="5797800" cy="718920"/>
            <a:chOff x="469800" y="8077320"/>
            <a:chExt cx="5797800" cy="71892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469800" y="8077320"/>
              <a:ext cx="579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474840" y="8077320"/>
              <a:ext cx="5790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3351240" y="80640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3352680" y="804960"/>
            <a:ext cx="2843280" cy="76294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561960" y="76968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561960" y="767880"/>
            <a:ext cx="2841480" cy="76294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1777680" y="392040"/>
            <a:ext cx="425520" cy="75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4544280" y="609840"/>
            <a:ext cx="755640" cy="425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4755600" y="7846560"/>
            <a:ext cx="911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685800" y="7772040"/>
            <a:ext cx="2641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5667120" y="7862400"/>
            <a:ext cx="415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EE6-E6AF-40BA-93BB-063FE671BE6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469800" y="8077320"/>
            <a:ext cx="5797800" cy="718920"/>
            <a:chOff x="469800" y="8077320"/>
            <a:chExt cx="5797800" cy="71892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469800" y="8077320"/>
              <a:ext cx="579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474840" y="8077320"/>
              <a:ext cx="5790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561960" y="76968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558720" y="767880"/>
            <a:ext cx="2841840" cy="76294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3351240" y="80640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3348000" y="804960"/>
            <a:ext cx="2841840" cy="76294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1777680" y="392040"/>
            <a:ext cx="425520" cy="75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4544280" y="609840"/>
            <a:ext cx="755640" cy="425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4758840" y="7851240"/>
            <a:ext cx="91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685800" y="7773480"/>
            <a:ext cx="2489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5671800" y="7865640"/>
            <a:ext cx="41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6E2-7CF8-49D3-B424-7AC50715BAF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2393640"/>
            <a:ext cx="429264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entor Text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4981680"/>
            <a:ext cx="428472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Beverly Abra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Summer 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7.20.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row Call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ois Low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tting is completely aligned with the character’s relationship with her fath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se of double timeline to study with kids (relationship and setting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Wondrous Words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Katie Wood Ra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Independent Writing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Colleen Cruz (Heinemann website download on mentor texts)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Mentor Texts: Teaching Writing Through Children’s Literature, K-6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by Dorfman and Campelli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Nonfiction Texts: Teaching Writing Through Children’s Literature, K-6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Dorfman and Campelli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Craft Lessons:  Teaching Writing K-8 Edition 2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Ralph Fletcher and JoAnn Portalup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Nonfiction Craft Lessons: Teaching Writing K-8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Ralph Fletcher and JoAnn Portalup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y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gives you a sense of what you are looking for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Lets you know what is possible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gives you a different way to look at reading and writing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rains the student’s eye for what to look for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hat is a great piece – now how can I do that?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nspiration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is a way to build  communication – can use titles to identify writing styles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hey raise the bar – set higher expectations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w To Choos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be a text you lov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udents need to enjoy reading and hearing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be about the length the students are going to writ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have the qualities you want to teach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be easy to read aloud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evel and Interest – Is it possible for my writers to read, comprehend and talk about this literature with others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Quality of Text – Can I get an image of my writers becoming like this writer in some way, shape, or form?  Will this writing help improve the quality of writing my writers currently uphold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ypes of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ublish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udent 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acher 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o-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eps for Using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rst experience as readers.  Read as a story – do not preteach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Read several times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Ideally all students will have copies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udents should mark places in the text that they lik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ogether try to break down the text to figure out the strategy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ake the identified section and give it a name.  If it has a name (figurative language) use it.  If not, students could make up a name for the strategy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ight take a whole period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eeds to be a whole class experien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mmon Mentor Text Strategi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riting strong beginnings.  Start with dialogu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howing vs. telling (showing by using action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nsion and suspens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ntence construction (long sentences to create a sense of being tired, short sentences to create a sense of longing to go outside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ructure (beginning, middle, end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en To Use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ole Cla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on Planning – to find teaching poi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Fireflie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Julie Brincklo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ory vs. summar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scribed setting through the characters ey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ets the reader into the characters thoughts and then breaks the scene by having another character speak outloud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Eleven”</a:t>
            </a:r>
            <a:br>
              <a:rPr sz="49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y Sandra Cisner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700" spc="-1" strike="noStrike">
                <a:solidFill>
                  <a:srgbClr val="aa2b1e"/>
                </a:solidFill>
                <a:latin typeface="Franklin Gothic Book"/>
              </a:rPr>
              <a:t>Structure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xpository structure – straight reflection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paragrap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arrative structure – small moment (paragraph 2 and 3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xpository structure – reflection (last paragrap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700" spc="-1" strike="noStrike">
                <a:solidFill>
                  <a:srgbClr val="aa2b1e"/>
                </a:solidFill>
                <a:latin typeface="Franklin Gothic Book"/>
              </a:rPr>
              <a:t>Meaning (bring the eye of the story to the surface)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Who is the eye? – What kind of person is the eye?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What did the author use to bring that out?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After reading, the life lesson the character learned is…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A child that is really struggling with growing up and the expectations that are placed on you.  Angry on one hand, maybe a little unsur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Word Choice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unsure, stupid, what they don’t understan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Repetition</a:t>
            </a:r>
            <a:r>
              <a:rPr b="0" lang="en-US" sz="1500" spc="-1" strike="noStrike">
                <a:solidFill>
                  <a:srgbClr val="aa2b1e"/>
                </a:solidFill>
                <a:latin typeface="Franklin Gothic Book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– not mine, not mine, not mine.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Powerful phrases repeated throughout the story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you’re eleven, you’re ten, and nine, and eight, and seven, and six, and five, and four, and three, and two, and one.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23:55:26Z</dcterms:created>
  <dc:creator>Abram, Beverly</dc:creator>
  <dc:description/>
  <dc:language>en-US</dc:language>
  <cp:lastModifiedBy>Abram, Beverly</cp:lastModifiedBy>
  <cp:lastPrinted>2011-07-20T02:06:25Z</cp:lastPrinted>
  <dcterms:modified xsi:type="dcterms:W3CDTF">2011-07-20T02:06:39Z</dcterms:modified>
  <cp:revision>5</cp:revision>
  <dc:subject/>
  <dc:title>Mentor Texts</dc:title>
</cp:coreProperties>
</file>